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A10-C733-4890-9A50-4E9F53B8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624-C9EF-496F-AAD3-D0F47CC5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59C-3FA1-4F38-8459-E20B880C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BFB-91D8-4722-9191-73B4CB86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BBD6-1824-412C-897A-77CB4912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E849-C199-475E-B072-7801F7A2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96C9-1E7B-429B-81AD-47085B4D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B528-FCB1-453D-B9F4-85DFEE05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C445-0A86-4E63-B0CE-CDF32273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8BD-430A-4554-B947-584FC3E4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6B7-D627-4B5F-A675-066ADCE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FEB-6CAA-45C6-B09E-739E1B0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8F1C-AEF9-46AF-B5C7-2A27FB7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60B5-4C34-4651-A738-467EB396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BB78-EBD1-47E9-B714-DC520C61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8D7E-1F82-420B-BA32-EB3A2DF1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E995-75A1-47FF-8DCA-FCF4313B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80A-51AC-464F-A3D2-5BEAE9FA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7D2-D218-41F3-8EA7-49FDAEB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A7B-B956-4BB2-B688-D614BC8F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C06-A036-4E3A-9C38-6F29F61D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476-4423-4791-A9DC-7853113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633-F344-4C09-A0F0-21D9ED4E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50D-0713-4AB0-9175-1B5D130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DF2-50E8-42ED-8F7D-68A8DFF31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45CB-0854-462D-A930-D60E70784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ntry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king in 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fessional Community t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act Student Lear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Can You Do to Move Toward the NBPTS Standard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small groups, identify key concepts for which you have not yet address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scuss what you could do to improve your collaboration with colleagues to impact your students’ learning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amily Partnership Standar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dependently, read the standard in your certificate for family and community and highlight the key concept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small groups, list key concepts found in the standard and list on chart paper and post in the room.  Skip lines so there will be room for the post-its to be placed during the next activity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Direct participants to independently take a gallery walk and read the key concepts from the standards.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amily Partnerships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What You Already Do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ew key concepts from the standards listed on chart paper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small groups, share specific activities you already do that shows evidence of the key concepts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each different activity on a post-it note and place the notes under the corresponding heading on the chart paper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port out to the whole group, reading the charts and post-it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Can You Do to Move Toward the NBPTS Standard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small groups, identify key concepts for which you have not yet address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iscuss what you could do to improve your collaboration with families and the community to impact your students’ learning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ultiple Pathways to Parent Communication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 the Handout “A Dozen Activities to Promote Parent Involvement.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mall groups, discuss what you have done to communicate with parent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ke notes on the BLANK “Multiple Paths to Parent/Community Communication.”  Share with the small group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share additional strategies as exampl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two-way communication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with parents and community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ader, Learner and Collaborator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the charts and respond to the following 3 questions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have you worked as a leader and collaborator at the local, state and/or national level within the last 5 years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have you worked as a learner, showing you have strengthened your own knowledge, skills and/or teaching practices through professional development in area relevant to you and your teaching context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have you worked with students’ families and the community to show on-going, interactive, two-way communication that focuses on student learning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Can You Show Evidence As A--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DER, LEARNER, COLLABORATOR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swer each of t he questions in writing as a bulleted list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small groups, share your responses to each question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hare your lists with the whole group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ke notes on what you may do to show more convincing evidenc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ignificance and Impact on Student Learning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ividually, read the Handout “Chart for Professional Collaboration.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hoose one activity from the brainstormed lists to write under the “Activity” heading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 the Handout “How To Document Your Accomplishments.”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discuss the “guiding questions” for each section (description, significance, and student impact)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mall groups, discuss how the activity listed on the overhead. was significant and how it impacted student learning, using the handout as a guide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report the responses of your group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Writing About Your Accomplishmen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d the Handout “Documented Accomplishments Categories” chart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oose 1 of your activities from each area that meets the criteria and make notes in each column—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tivity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act on Student lear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to Document Your Accomplishments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 “Choosing Your Documentation” from the NBPTS portfolio instructions for your certificate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a whole group, discuss the 3 types of documentation: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artif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verification form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communication log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ainstorm a list of possible types of evidence to support your accomplishments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utline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the Rubric and Standards to Plan and Analyz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tegories of Accomplishm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fessional Collabor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mily Partnershi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ader, Learner, Collabora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tivity, Significance, Impact on Student Lear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ing and Document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Writing About an Accomplishment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ad the Handout “Guide for Collaborative Accomplishments.”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a whole group, discuss the sentence stems that provide guidance for how to write about accomplishment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dividually, complete the sentence stems for 1 of your activitie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small groups, share each stem. Each group may record 1 example on chart paper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whole group, clarify meanings, answer questions and share examples from each group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Next Step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ad the handout “Practical Tips for Getting Started With Entry Four.”   Clarify the ideas presented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st on a 3x5 card what next steps you will take in order to complete Entry Four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utcom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ndidates will have the opportunity to—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use the NBPTS directions and standards to analyze how they impact student learning by collaborating with other professionals and parents and by utilizing community resourc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use tools to prepare and analyze written commentaries and documentation for Entry 4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utlining Rubric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iew the Handout “Finding Evidence of the Rubric and Standards in a Video and Student Work Entries” to see generic key concept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ad Portfolio Direction “How Will My Response Be Scored?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st key concepts on the Handout “Blank Finding Evidence of the Rubric…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NBPT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ubric and Standard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ad through NBPTS Standards identified for this entry to find more information about the key concepts through--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arific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p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ning and Analyzing Stage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lanning Sta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rainstorm what could be included to show evidence of each key concept in the rubric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alyzing Sta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st evidence found for each key concept  in the written commentary or document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ree Categories of Accomplishments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ad the handout “Documented Accomplishments Categories Diagram” Note that you should present evidence of your accomplishments in each of the three identified categorie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three small groups (1 for each category), record on chart paper  a brainstormed list of 3 possible activities your selected category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a whole group, discuss the ideas for each category and identify activities that might overlap into 2 or more categorie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048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NBPTS Standard for Professional Collaboration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ependently, read  the standard in your certificate for professional collaboration and highlight the key concept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small groups or pairs, list  key concepts found in the standard on chart paper and post in the room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kip lines so there will be room for ideas on post-its to be placed during the next activity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ependently, take a gallery walk and read the key concepts from the standard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d newly discovered key concepts to your Handout “Blank Finding Evidence of the Rubric and Standards in a Video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fessional Collaboration:  What You Already Do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Review the key concepts from the NBPTS standards listed on chart paper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small groups, share specific activities you already do that shows evidence of each key concepts. 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Write each different activity on a post-it note and place the notes under the corresponding heading on the chart paper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In a whole group, report out reading the charts and post-its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41:41Z</dcterms:created>
  <dc:creator>College of Education</dc:creator>
  <dc:description/>
  <dc:language>en-US</dc:language>
  <cp:lastModifiedBy>Suzanne Martinez</cp:lastModifiedBy>
  <dcterms:modified xsi:type="dcterms:W3CDTF">2011-09-22T16:19:53Z</dcterms:modified>
  <cp:revision>17</cp:revision>
  <dc:subject/>
  <dc:title>Assessing Literacy</dc:title>
</cp:coreProperties>
</file>